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DCF-94AF-4466-9427-BF13E5F8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271-9AFA-4003-A1E1-2530C350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E5E-F56B-4D88-935C-707CE439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68D-9912-4188-BFFB-43E1B232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A34-DDD1-4C23-B1C3-8024E138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F81-7F36-4D17-8FB2-BCB136FA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903-3846-403C-BBF0-6894CEDC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F3E-8F33-4670-8FDC-EA355A73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3C5-B253-4E16-AEF6-87BC2C32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2D0-90FE-4DC6-BF1A-78370642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DB1-933C-403D-8C14-00428DDB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929-B9F8-4F0C-B256-B7C48FFB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FD19-2C60-4ED5-99C3-D01B04890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905120"/>
            <a:ext cx="4953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What is Language Stu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stage in a lesson where students and teachers focus in on (on the construction of) a specific feature of the language in order to understand it b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3886200"/>
            <a:ext cx="5029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What is the goal of Language Stu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crease knowledge of the language system so that the longer-term aim of improving productive and receptive skills can be ach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1752480"/>
            <a:ext cx="533412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Ways through which students can learn a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classroom under the direction of a te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 language on their own - Autonomous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429000"/>
            <a:ext cx="50292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Language Study focusing on structure and use of language fo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phology of forms (is, am, b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of phrases, clauses &amp; sent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ing an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nun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5029200"/>
            <a:ext cx="2438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r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y of written and spoken text 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1905120"/>
            <a:ext cx="52578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Language Study Techniqu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Demonstr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tion which shows the language in action; modelling; pictures and re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Expla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agrams; grammatical expla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Discov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 out a grammar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Accu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oduction repeat new words, phrases, or sentences in a controlled way, correcting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Immediate crea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 their 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1676520"/>
            <a:ext cx="495324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When do we focus on any necessary language forms? Before, during or after the performance of a communicative task or a receptive skills activ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1: study language in a variety of ways, then explore a topic, and then use what students have learnt to perform a ta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2: during a task-based sequence (focus on 1 or 2 past tense forms in the middle of an extended narrative-writing task – describe weather in the middle of a holiday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3: After the students have performed the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when not planned, opportunities arise (a student wants to k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905120"/>
            <a:ext cx="495324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Teach Known or unknown langu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stud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beg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th some degree of linguistic knowledge and ability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learn at different speeds and in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d ability’ cla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1828800"/>
            <a:ext cx="4953240" cy="41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what do we teach?  What do we 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find out what our students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Ways of avoiding teaching already Know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tudents perform tasks and see how well they use the language forms in question before deciding to teach them as if they were n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cit the new language forms you wish them to stu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uccessful, no demonstration, no explanati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unsuccessful, teach the new language fo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523880"/>
            <a:ext cx="548640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Choosing Study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a varied diet of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tudents have different learning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. Sustain student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Assess a language study activity for use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effective will it be? When take it in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. Justify the time spent on it before and during the     le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  Activity should demonstrate mea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  Will it work with this grou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Evaluate a study activity after use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  f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. inf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5562720"/>
            <a:ext cx="3352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Keep a record of your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Conduct your own action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1905120"/>
            <a:ext cx="53341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Examples of language study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Introducing new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Exampl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ight in space, pages 159-1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Discovery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Exampl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iscovery activities, pages 161-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Exampl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ules and freedom, pages 162-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me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Exampl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erfect one-liners, page 164-1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Example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 the queue, pages 166-1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6:36:32Z</dcterms:created>
  <dc:creator>Sofocleous</dc:creator>
  <dc:description/>
  <dc:language>en-US</dc:language>
  <cp:lastModifiedBy>Sofocleous</cp:lastModifiedBy>
  <dcterms:modified xsi:type="dcterms:W3CDTF">2008-03-04T18:58:48Z</dcterms:modified>
  <cp:revision>4</cp:revision>
  <dc:subject/>
  <dc:title>Slide 1</dc:title>
</cp:coreProperties>
</file>